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8E2-801F-4DC2-81AE-18CE11CD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B1D-3BE8-4FCD-AADE-EAC4DBEC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FF4-54E6-444F-AD14-207B40E3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B41-B11B-4787-9A43-D5D1DF5B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476B-56B2-4C17-83BF-109CA516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D320-EC92-42C4-85E7-E727831C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7C6C-CBE7-47CB-ABF4-557EC080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4F79-5344-464D-88F3-5E55F04C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0842-7F5D-47B2-93FF-EDE8276B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39EE-60A3-454B-B628-C2F1D0C4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4892-6E6D-4D8F-A390-5D3B9954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ADB-3478-427B-8222-A8CFA014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DAA0-A98F-4AB9-BF45-8DFB0EFF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602E-50A0-4F8F-8200-8036D52E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633D-EC1D-46D9-89F1-A7A82A48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6960-C70C-4487-80F3-67E68828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75C6-16A0-40A9-B112-0254B068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0B5-E989-4DAA-8F43-51253320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222-8072-4F86-81C4-797D213B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680-E33E-4B86-907B-85BC249E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9D8-98A1-437C-AA93-697856CA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79A-D761-47FC-AD18-CD382E64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653-B36E-4E1B-98AC-95364BD4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5AE-2DF1-4FB8-868E-498B5F6F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B467-B016-40E3-AC48-33E3340BB754}" type="slidenum"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6A37-C515-42BD-8F33-5E3A33527E09}" type="slidenum"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2640" y="51321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MA" sz="2400" spc="-1" strike="noStrike">
                <a:solidFill>
                  <a:srgbClr val="d60093"/>
                </a:solidFill>
                <a:latin typeface="Dubai"/>
                <a:cs typeface="Dubai"/>
              </a:rPr>
              <a:t>عرسي عبد العزيز</a:t>
            </a:r>
            <a:br>
              <a:rPr sz="2400"/>
            </a:br>
            <a:r>
              <a:rPr b="1" lang="ar-MA" sz="2400" spc="-1" strike="noStrike">
                <a:solidFill>
                  <a:srgbClr val="d60093"/>
                </a:solidFill>
                <a:latin typeface="Dubai"/>
                <a:cs typeface="Dubai"/>
              </a:rPr>
              <a:t>رئيس المنتدى المغربي للصم</a:t>
            </a:r>
            <a:br>
              <a:rPr sz="2400"/>
            </a:br>
            <a:r>
              <a:rPr b="1" lang="ar-MA" sz="2400" spc="-1" strike="noStrike">
                <a:solidFill>
                  <a:srgbClr val="d60093"/>
                </a:solidFill>
                <a:latin typeface="Dubai"/>
                <a:cs typeface="Dubai"/>
              </a:rPr>
              <a:t>أستاذ باحث</a:t>
            </a:r>
            <a:r>
              <a:rPr b="1" lang="ar-MA" sz="2400" spc="-1" strike="noStrike">
                <a:solidFill>
                  <a:srgbClr val="d60093"/>
                </a:solidFill>
                <a:latin typeface="Dubai"/>
                <a:ea typeface="Dubai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55640" y="4076640"/>
            <a:ext cx="82296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الصم والتمثلات </a:t>
            </a:r>
            <a:r>
              <a:rPr b="1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الاجتماعية</a:t>
            </a:r>
            <a:r>
              <a:rPr b="1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Dubai"/>
                <a:ea typeface="Dubai"/>
              </a:rPr>
              <a:t>Les Sourds et la représentation sociale </a:t>
            </a:r>
            <a:r>
              <a:rPr b="1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Image 2" descr=""/>
          <p:cNvPicPr/>
          <p:nvPr/>
        </p:nvPicPr>
        <p:blipFill>
          <a:blip r:embed="rId1"/>
          <a:stretch/>
        </p:blipFill>
        <p:spPr>
          <a:xfrm>
            <a:off x="1476360" y="2268360"/>
            <a:ext cx="1863720" cy="1689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RÃ©sultat de recherche d'images pour &quot;conseil supÃ©rieur de l'Ã©ducation maroc&quot;"/>
          <p:cNvPicPr/>
          <p:nvPr/>
        </p:nvPicPr>
        <p:blipFill>
          <a:blip r:embed="rId2"/>
          <a:stretch/>
        </p:blipFill>
        <p:spPr>
          <a:xfrm>
            <a:off x="6732720" y="2333520"/>
            <a:ext cx="1865160" cy="16239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"/>
          <p:cNvSpPr/>
          <p:nvPr/>
        </p:nvSpPr>
        <p:spPr>
          <a:xfrm>
            <a:off x="611280" y="1009800"/>
            <a:ext cx="8229600" cy="21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800000"/>
                </a:solidFill>
                <a:latin typeface="Dubai"/>
                <a:cs typeface="Dubai"/>
              </a:rPr>
              <a:t>الندوة الدولية حول الحق في التربية الدامجة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800" spc="-1" strike="noStrike">
                <a:solidFill>
                  <a:srgbClr val="800000"/>
                </a:solidFill>
                <a:latin typeface="Dubai"/>
                <a:cs typeface="Dubai"/>
              </a:rPr>
              <a:t>المجلس الأعلى للتربية والتكوين والبحث العلمي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400" spc="-1" strike="noStrike">
                <a:solidFill>
                  <a:srgbClr val="003366"/>
                </a:solidFill>
                <a:latin typeface="Dubai"/>
                <a:cs typeface="Dubai"/>
              </a:rPr>
              <a:t>الجامع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بالرجوع الى بوابة البحث العلمي </a:t>
            </a:r>
            <a:r>
              <a:rPr b="0" lang="en-GB" sz="3200" spc="-1" strike="noStrike">
                <a:solidFill>
                  <a:srgbClr val="003366"/>
                </a:solidFill>
                <a:latin typeface="Dubai"/>
                <a:ea typeface="Dubai"/>
              </a:rPr>
              <a:t>www</a:t>
            </a:r>
            <a:r>
              <a:rPr b="0" lang="fr-FR" sz="3200" spc="-1" strike="noStrike">
                <a:solidFill>
                  <a:srgbClr val="003366"/>
                </a:solidFill>
                <a:latin typeface="Dubai"/>
                <a:ea typeface="Dubai"/>
              </a:rPr>
              <a:t>.</a:t>
            </a:r>
            <a:r>
              <a:rPr b="0" lang="en-GB" sz="3200" spc="-1" strike="noStrike">
                <a:solidFill>
                  <a:srgbClr val="003366"/>
                </a:solidFill>
                <a:latin typeface="Dubai"/>
                <a:ea typeface="Dubai"/>
              </a:rPr>
              <a:t>otrohati.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حوالي </a:t>
            </a:r>
            <a:r>
              <a:rPr b="0" lang="ar-MA" sz="3200" spc="-1" strike="noStrike">
                <a:solidFill>
                  <a:srgbClr val="003366"/>
                </a:solidFill>
                <a:latin typeface="Dubai"/>
                <a:ea typeface="Dubai"/>
              </a:rPr>
              <a:t>29000</a:t>
            </a:r>
            <a:r>
              <a:rPr b="0" lang="ar-MA" sz="3200" spc="-1" strike="noStrike">
                <a:solidFill>
                  <a:srgbClr val="003366"/>
                </a:solidFill>
                <a:latin typeface="Dubai"/>
                <a:ea typeface="Dubai"/>
              </a:rPr>
              <a:t> مشروع بحث مسجل لدى مختلف الجامعات المغربية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عدد المشاريع المتعلقة بالاعاقة حوالي </a:t>
            </a:r>
            <a:r>
              <a:rPr b="0" lang="ar-MA" sz="3200" spc="-1" strike="noStrike">
                <a:solidFill>
                  <a:srgbClr val="003366"/>
                </a:solidFill>
                <a:latin typeface="Dubai"/>
                <a:ea typeface="Dubai"/>
              </a:rPr>
              <a:t>2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عدد المشاريع المتعلقة بالتوحد </a:t>
            </a:r>
            <a:r>
              <a:rPr b="0" lang="ar-MA" sz="3200" spc="-1" strike="noStrike">
                <a:solidFill>
                  <a:srgbClr val="003366"/>
                </a:solidFill>
                <a:latin typeface="Dubai"/>
                <a:ea typeface="Dubai"/>
              </a:rPr>
              <a:t>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عدد المشاريع المتعلقة بتدريس الصم </a:t>
            </a:r>
            <a:r>
              <a:rPr b="0" lang="ar-MA" sz="3200" spc="-1" strike="noStrike">
                <a:solidFill>
                  <a:srgbClr val="003366"/>
                </a:solidFill>
                <a:latin typeface="Dubai"/>
                <a:ea typeface="Dubai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Espace réservé du contenu 4" descr=""/>
          <p:cNvPicPr/>
          <p:nvPr/>
        </p:nvPicPr>
        <p:blipFill>
          <a:blip r:embed="rId1"/>
          <a:stretch/>
        </p:blipFill>
        <p:spPr>
          <a:xfrm>
            <a:off x="2556000" y="2924280"/>
            <a:ext cx="4471920" cy="261144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7"/>
          <p:cNvSpPr/>
          <p:nvPr/>
        </p:nvSpPr>
        <p:spPr>
          <a:xfrm>
            <a:off x="2124000" y="601812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mail: arssi.abdelaziz@gmail.com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400" spc="-1" strike="noStrike">
                <a:solidFill>
                  <a:srgbClr val="003366"/>
                </a:solidFill>
                <a:latin typeface="Dubai"/>
                <a:cs typeface="Dubai"/>
              </a:rPr>
              <a:t>بعض الاحصائيات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09640" y="2133360"/>
            <a:ext cx="808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400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مليون على مستوى العالم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333000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يعيشون بدرجات مختلفة من الصمم بالمغر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حوالي 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32900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طفل بين 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5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و 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15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سنة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عدد الممدرسين باقسام الدمج المدرسي 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1069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عدد الممدرسين داخل المراكز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1467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عدد الممدرسين داخل الأقسام العادية </a:t>
            </a:r>
            <a:r>
              <a:rPr b="0" lang="fr-FR" sz="2800" spc="-1" strike="noStrike">
                <a:solidFill>
                  <a:srgbClr val="003366"/>
                </a:solidFill>
                <a:latin typeface="Dubai"/>
                <a:ea typeface="Dubai"/>
              </a:rPr>
              <a:t>146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عدد المترجمين المسجلين بلائحة الخبراء لدى وزارة العدل 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18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نصيب الصم من الاعلام 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5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دقائق كل أسبوع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971640" y="2852640"/>
          <a:ext cx="7646760" cy="3602160"/>
        </p:xfrm>
        <a:graphic>
          <a:graphicData uri="http://schemas.openxmlformats.org/drawingml/2006/table">
            <a:tbl>
              <a:tblPr/>
              <a:tblGrid>
                <a:gridCol w="3406680"/>
                <a:gridCol w="2025720"/>
                <a:gridCol w="797040"/>
                <a:gridCol w="620640"/>
                <a:gridCol w="796680"/>
              </a:tblGrid>
              <a:tr h="4899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iveau d'éduc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Sourds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veugles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Urbain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ural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Sans éduc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.4 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.9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.9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6.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éscolaire (normal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4 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6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6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4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éscolaire fondamentale (Ecoles Coraniques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6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.5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imair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3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6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9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lège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6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9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ycé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7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3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ducation Non Formell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7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seignement Supérieur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3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0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n déclaré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Rectangle 1"/>
          <p:cNvSpPr/>
          <p:nvPr/>
        </p:nvSpPr>
        <p:spPr>
          <a:xfrm>
            <a:off x="1735200" y="871560"/>
            <a:ext cx="6724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3366"/>
                </a:solidFill>
                <a:latin typeface="Arial"/>
                <a:ea typeface="Arial"/>
              </a:rPr>
              <a:t>Tableau 6 Taux de scolarisation par niveau d</a:t>
            </a:r>
            <a:r>
              <a:rPr b="1" lang="fr-FR" sz="1100" spc="-1" strike="noStrike">
                <a:solidFill>
                  <a:srgbClr val="003366"/>
                </a:solidFill>
                <a:latin typeface="Times New Roman"/>
                <a:ea typeface="Arial"/>
              </a:rPr>
              <a:t>’é</a:t>
            </a:r>
            <a:r>
              <a:rPr b="1" lang="fr-FR" sz="1100" spc="-1" strike="noStrike">
                <a:solidFill>
                  <a:srgbClr val="003366"/>
                </a:solidFill>
                <a:latin typeface="Arial"/>
                <a:ea typeface="Arial"/>
              </a:rPr>
              <a:t>tude (%)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ource : Haut-Commissariat au Plan (2014)</a:t>
            </a:r>
            <a:r>
              <a:rPr b="1" i="1" lang="fr-FR" sz="1600" spc="-1" strike="noStrike" u="sng" baseline="30000">
                <a:solidFill>
                  <a:srgbClr val="000000"/>
                </a:solidFill>
                <a:uFillTx/>
                <a:latin typeface="Times New Roman"/>
                <a:ea typeface="Calibri"/>
              </a:rPr>
              <a:t>[1]</a:t>
            </a:r>
            <a:r>
              <a:rPr b="0" lang="fr-FR" sz="1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24040" y="6521400"/>
            <a:ext cx="779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 baseline="30000">
                <a:solidFill>
                  <a:srgbClr val="954f72"/>
                </a:solidFill>
                <a:uFillTx/>
                <a:latin typeface="Arial"/>
                <a:ea typeface="Times New Roman"/>
              </a:rPr>
              <a:t>[1]</a:t>
            </a:r>
            <a:r>
              <a:rPr b="0" lang="en-GB" sz="1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http://www.hcp.ma/search/handicap/ 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1055520" y="2579760"/>
          <a:ext cx="7525080" cy="3446280"/>
        </p:xfrm>
        <a:graphic>
          <a:graphicData uri="http://schemas.openxmlformats.org/drawingml/2006/table">
            <a:tbl>
              <a:tblPr/>
              <a:tblGrid>
                <a:gridCol w="2926080"/>
                <a:gridCol w="1726920"/>
                <a:gridCol w="1127160"/>
                <a:gridCol w="1744920"/>
              </a:tblGrid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culin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éminin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ux General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2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.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-3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-4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.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plu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s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,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1" name="Rectangle 1"/>
          <p:cNvSpPr/>
          <p:nvPr/>
        </p:nvSpPr>
        <p:spPr>
          <a:xfrm>
            <a:off x="1368360" y="735840"/>
            <a:ext cx="61563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3366"/>
                </a:solidFill>
                <a:latin typeface="Arial"/>
                <a:ea typeface="Arial"/>
              </a:rPr>
              <a:t>Tableau 7 Taux d</a:t>
            </a:r>
            <a:r>
              <a:rPr b="1" lang="fr-FR" sz="1100" spc="-1" strike="noStrike">
                <a:solidFill>
                  <a:srgbClr val="003366"/>
                </a:solidFill>
                <a:latin typeface="Times New Roman"/>
                <a:ea typeface="Arial"/>
              </a:rPr>
              <a:t>’</a:t>
            </a:r>
            <a:r>
              <a:rPr b="1" lang="fr-FR" sz="1100" spc="-1" strike="noStrike">
                <a:solidFill>
                  <a:srgbClr val="003366"/>
                </a:solidFill>
                <a:latin typeface="Arial"/>
                <a:ea typeface="Arial"/>
              </a:rPr>
              <a:t>alphab</a:t>
            </a:r>
            <a:r>
              <a:rPr b="1" lang="fr-FR" sz="1100" spc="-1" strike="noStrike">
                <a:solidFill>
                  <a:srgbClr val="003366"/>
                </a:solidFill>
                <a:latin typeface="Times New Roman"/>
                <a:ea typeface="Arial"/>
              </a:rPr>
              <a:t>é</a:t>
            </a:r>
            <a:r>
              <a:rPr b="1" lang="fr-FR" sz="1100" spc="-1" strike="noStrike">
                <a:solidFill>
                  <a:srgbClr val="003366"/>
                </a:solidFill>
                <a:latin typeface="Arial"/>
                <a:ea typeface="Arial"/>
              </a:rPr>
              <a:t>tisation des enfants sourds par âge et sexe (%)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 : Haut-Commissariat au Plan (2014)</a:t>
            </a:r>
            <a:r>
              <a:rPr b="1" i="1" lang="fr-FR" sz="16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[1]</a:t>
            </a:r>
            <a:br>
              <a:rPr sz="3200"/>
            </a:b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971640" y="6453360"/>
            <a:ext cx="590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 baseline="30000">
                <a:solidFill>
                  <a:srgbClr val="954f72"/>
                </a:solidFill>
                <a:uFillTx/>
                <a:latin typeface="Arial"/>
                <a:ea typeface="Times New Roman"/>
              </a:rPr>
              <a:t>[1]</a:t>
            </a:r>
            <a:r>
              <a:rPr b="0" lang="en-GB" sz="1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http://www.hcp.ma/search/handicap/ 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3366"/>
                </a:solidFill>
                <a:latin typeface="Times New Roman"/>
                <a:cs typeface="Calibri"/>
              </a:rPr>
              <a:t>التعريف الطبي</a:t>
            </a:r>
            <a:br>
              <a:rPr sz="3200"/>
            </a:br>
            <a:r>
              <a:rPr b="0" lang="ar-MA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 تكريس التمثلات</a:t>
            </a:r>
            <a:r>
              <a:rPr b="0" lang="ar-MA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900000" y="2492280"/>
            <a:ext cx="77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Calibri"/>
              </a:rPr>
              <a:t>ومن الجانب الطبي يحدد نظام تصنيف شائع الاستخدام المستويات الخاصة لفقدان السمع على أنه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Calibri"/>
              </a:rPr>
              <a:t>خفيف يعتبر </a:t>
            </a:r>
            <a:r>
              <a:rPr b="0" lang="ar-MA" sz="2400" spc="-1" strike="noStrike">
                <a:solidFill>
                  <a:srgbClr val="003366"/>
                </a:solidFill>
                <a:latin typeface="Times New Roman"/>
                <a:cs typeface="Calibri"/>
              </a:rPr>
              <a:t>فقدان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Calibri"/>
              </a:rPr>
              <a:t>السمع من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26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إلى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40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(دب)،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Calibri"/>
              </a:rPr>
              <a:t>متوسط بين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41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و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55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(دب)،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Calibri"/>
              </a:rPr>
              <a:t>معتدل الشدة من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56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إلى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70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(دب)،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Calibri"/>
              </a:rPr>
              <a:t>عميق بين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71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إلى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90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(دب) وعميق تام من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91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Calibri"/>
              </a:rPr>
              <a:t>دب أو أكث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400" spc="-1" strike="noStrike">
                <a:solidFill>
                  <a:srgbClr val="003366"/>
                </a:solidFill>
                <a:latin typeface="Times New Roman"/>
              </a:rPr>
              <a:t>ثقافة الصم</a:t>
            </a:r>
            <a:r>
              <a:rPr b="0" lang="ar-M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66"/>
                </a:solidFill>
                <a:latin typeface="Dubai"/>
                <a:cs typeface="Dubai"/>
              </a:rPr>
              <a:t>الصم لم يكونوا أبدا مجموعات متجانسة إلى حد كبير</a:t>
            </a:r>
            <a:r>
              <a:rPr b="0" lang="fr-FR" sz="2800" spc="-1" strike="noStrike">
                <a:solidFill>
                  <a:srgbClr val="003366"/>
                </a:solidFill>
                <a:latin typeface="Dubai"/>
                <a:ea typeface="Dubai"/>
              </a:rPr>
              <a:t>. </a:t>
            </a:r>
            <a:r>
              <a:rPr b="0" lang="ar-SA" sz="2800" spc="-1" strike="noStrike">
                <a:solidFill>
                  <a:srgbClr val="003366"/>
                </a:solidFill>
                <a:latin typeface="Dubai"/>
                <a:cs typeface="Dubai"/>
              </a:rPr>
              <a:t>لأن 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التعددية داخل مجتمع الصم تنشأ عن جوانب مثل اللغة أو النوع أو العرق أو الدين وأي من هذه الجوانب قد تتفاعل تبعا لكل حالة فردية للأصم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وهي تظهر مثالا على ذلك: "امرأة صماء ستواجه هويتها الجنسية في لقاءها مع الصم الرجال، ولكنها ربما تواجه هويتها اللغوية بين مجموعة من السامعين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ولهذا فمجتمع الصم غير متجانس أكثر مما يتوقع الكثيرون.........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400" spc="-1" strike="noStrike">
                <a:solidFill>
                  <a:srgbClr val="003366"/>
                </a:solidFill>
                <a:latin typeface="Dubai"/>
                <a:cs typeface="Dubai"/>
              </a:rPr>
              <a:t>لغة الإشارة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859280" y="3429000"/>
            <a:ext cx="38908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لغة عالمية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لغة ليست لها قواعد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الميم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التهجئة الابجدية الإشارية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rcRect l="0" t="0" r="3279" b="0"/>
          <a:stretch/>
        </p:blipFill>
        <p:spPr>
          <a:xfrm>
            <a:off x="684360" y="2060640"/>
            <a:ext cx="39844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6000" spc="-1" strike="noStrike">
                <a:solidFill>
                  <a:srgbClr val="003366"/>
                </a:solidFill>
                <a:latin typeface="Dubai"/>
                <a:cs typeface="Dubai"/>
              </a:rPr>
              <a:t>ا</a:t>
            </a:r>
            <a:r>
              <a:rPr b="1" lang="ar-MA" sz="4000" spc="-1" strike="noStrike">
                <a:solidFill>
                  <a:srgbClr val="003366"/>
                </a:solidFill>
                <a:latin typeface="Dubai"/>
                <a:cs typeface="Dubai"/>
              </a:rPr>
              <a:t>لتمثلا</a:t>
            </a:r>
            <a:r>
              <a:rPr b="1" lang="ar-MA" sz="6000" spc="-1" strike="noStrike">
                <a:solidFill>
                  <a:srgbClr val="003366"/>
                </a:solidFill>
                <a:latin typeface="Dubai"/>
                <a:cs typeface="Dubai"/>
              </a:rPr>
              <a:t>ت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716360" y="2214360"/>
            <a:ext cx="4051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الص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العائلة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مجتمع السامعين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المدرسة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المدرس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الإعلا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7793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3366"/>
                </a:solidFill>
                <a:latin typeface="Dubai"/>
                <a:cs typeface="Dubai"/>
              </a:rPr>
              <a:t>كيف يمكن التخلص من التمثلات الإقصائية</a:t>
            </a:r>
            <a:r>
              <a:rPr b="0" lang="ar-MA" sz="3600" spc="-1" strike="noStrike">
                <a:solidFill>
                  <a:srgbClr val="003366"/>
                </a:solidFill>
                <a:latin typeface="Dubai"/>
                <a:ea typeface="Dubai"/>
              </a:rPr>
              <a:t> داخل المدرسة </a:t>
            </a:r>
            <a:r>
              <a:rPr b="0" lang="ar-SA" sz="3600" spc="-1" strike="noStrike">
                <a:solidFill>
                  <a:srgbClr val="003366"/>
                </a:solidFill>
                <a:latin typeface="Dubai"/>
                <a:cs typeface="Dubai"/>
              </a:rPr>
              <a:t>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580000" y="2214360"/>
            <a:ext cx="34005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تكوين المترجمين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تدريب رجال ونساء  التربية على الازدواجية اللغة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اشراك الصم في العملية التعليمية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تأهيل الفضاء المدرسي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4" name="Picture 4" descr="Snowman Emergency"/>
          <p:cNvPicPr/>
          <p:nvPr/>
        </p:nvPicPr>
        <p:blipFill>
          <a:blip r:embed="rId1"/>
          <a:srcRect l="9879" t="0" r="0" b="0"/>
          <a:stretch/>
        </p:blipFill>
        <p:spPr>
          <a:xfrm>
            <a:off x="826920" y="2214720"/>
            <a:ext cx="47530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15:49:42Z</dcterms:created>
  <dc:creator>Abdelaziz Arssi</dc:creator>
  <dc:description/>
  <dc:language>en-US</dc:language>
  <cp:lastModifiedBy>ABDELAZIZ ARSSI</cp:lastModifiedBy>
  <dcterms:modified xsi:type="dcterms:W3CDTF">2019-01-08T12:08:03Z</dcterms:modified>
  <cp:revision>80</cp:revision>
  <dc:subject/>
  <dc:title>The views of people with intellectual disabilities to their present and future living arrangements</dc:title>
</cp:coreProperties>
</file>